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5BFDC-98AB-485D-AF39-3BB851E8C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AEFF3-6F7E-42B4-8DAB-1F9073BE8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4A1C-47B4-41F2-AC3D-F1F467C7B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6970-E835-41B5-86F0-5FB8D63BA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2C5B1-DA55-4C6B-A3E7-EAFB14050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A516-8194-4851-AFA6-9CEBA22AB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06D6C-161D-4C3D-8D2F-EB723680E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C5B1E-AE78-4762-A69A-B394CC5AA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64057-5B82-463A-8CA5-9F22C4FD8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9BC5C-42C4-4A0B-B7B3-78C660308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BB0AD-14EA-45F5-BAFD-B056A7EAF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6819-B1B3-4B4C-B654-E14A9831B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5D24-B946-4D79-980F-3860A3F554AA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6-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Extending Financial Statement Information 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on a Work Shee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ING BALANCE SHEET ACCOUNT BALANCES ON A WORK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C21_blue_0612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7924680" cy="3336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1292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it balances without adjus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4910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it balances with adjus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585144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 balances without adjus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620120" y="3843360"/>
            <a:ext cx="1020600" cy="1587600"/>
            <a:chOff x="7620120" y="3843360"/>
            <a:chExt cx="1020600" cy="1587600"/>
          </a:xfrm>
        </p:grpSpPr>
        <p:grpSp>
          <p:nvGrpSpPr>
            <p:cNvPr id="97" name=""/>
            <p:cNvGrpSpPr/>
            <p:nvPr/>
          </p:nvGrpSpPr>
          <p:grpSpPr>
            <a:xfrm>
              <a:off x="7620120" y="3843360"/>
              <a:ext cx="821880" cy="1484280"/>
              <a:chOff x="7620120" y="3843360"/>
              <a:chExt cx="821880" cy="148428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8259120" y="4138560"/>
                <a:ext cx="182520" cy="1189080"/>
              </a:xfrm>
              <a:custGeom>
                <a:avLst/>
                <a:gdLst/>
                <a:ahLst/>
                <a:rect l="l" t="t" r="r" b="b"/>
                <a:pathLst>
                  <a:path w="192" h="960">
                    <a:moveTo>
                      <a:pt x="192" y="0"/>
                    </a:moveTo>
                    <a:lnTo>
                      <a:pt x="0" y="0"/>
                    </a:lnTo>
                    <a:lnTo>
                      <a:pt x="0" y="9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20120" y="3843360"/>
                <a:ext cx="639720" cy="5936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8229600" y="50198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932520" y="1676520"/>
            <a:ext cx="1022400" cy="2163600"/>
            <a:chOff x="6932520" y="1676520"/>
            <a:chExt cx="1022400" cy="2163600"/>
          </a:xfrm>
        </p:grpSpPr>
        <p:grpSp>
          <p:nvGrpSpPr>
            <p:cNvPr id="102" name=""/>
            <p:cNvGrpSpPr/>
            <p:nvPr/>
          </p:nvGrpSpPr>
          <p:grpSpPr>
            <a:xfrm>
              <a:off x="6932520" y="1808280"/>
              <a:ext cx="813960" cy="2031840"/>
              <a:chOff x="6932520" y="1808280"/>
              <a:chExt cx="813960" cy="2031840"/>
            </a:xfrm>
          </p:grpSpPr>
          <p:sp>
            <p:nvSpPr>
              <p:cNvPr id="103" name=""/>
              <p:cNvSpPr/>
              <p:nvPr/>
            </p:nvSpPr>
            <p:spPr>
              <a:xfrm flipH="1" flipV="1">
                <a:off x="7571520" y="1808280"/>
                <a:ext cx="174600" cy="1822320"/>
              </a:xfrm>
              <a:custGeom>
                <a:avLst/>
                <a:gdLst/>
                <a:ahLst/>
                <a:rect l="l" t="t" r="r" b="b"/>
                <a:pathLst>
                  <a:path w="192" h="960">
                    <a:moveTo>
                      <a:pt x="192" y="0"/>
                    </a:moveTo>
                    <a:lnTo>
                      <a:pt x="0" y="0"/>
                    </a:lnTo>
                    <a:lnTo>
                      <a:pt x="0" y="9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932520" y="3429000"/>
                <a:ext cx="639720" cy="411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 flipH="1">
              <a:off x="7543800" y="16765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351480" y="2666880"/>
            <a:ext cx="1222560" cy="2764080"/>
            <a:chOff x="6351480" y="2666880"/>
            <a:chExt cx="1222560" cy="2764080"/>
          </a:xfrm>
        </p:grpSpPr>
        <p:sp>
          <p:nvSpPr>
            <p:cNvPr id="107" name=""/>
            <p:cNvSpPr/>
            <p:nvPr/>
          </p:nvSpPr>
          <p:spPr>
            <a:xfrm>
              <a:off x="6934320" y="2666880"/>
              <a:ext cx="639720" cy="776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34320" y="4419720"/>
              <a:ext cx="63972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6351480" y="3048120"/>
              <a:ext cx="582840" cy="2382840"/>
              <a:chOff x="6351480" y="3048120"/>
              <a:chExt cx="582840" cy="2382840"/>
            </a:xfrm>
          </p:grpSpPr>
          <p:sp>
            <p:nvSpPr>
              <p:cNvPr id="110" name=""/>
              <p:cNvSpPr/>
              <p:nvPr/>
            </p:nvSpPr>
            <p:spPr>
              <a:xfrm>
                <a:off x="6568920" y="3048120"/>
                <a:ext cx="365400" cy="1481040"/>
              </a:xfrm>
              <a:custGeom>
                <a:avLst/>
                <a:gdLst/>
                <a:ahLst/>
                <a:rect l="l" t="t" r="r" b="b"/>
                <a:pathLst>
                  <a:path w="192" h="960">
                    <a:moveTo>
                      <a:pt x="192" y="0"/>
                    </a:moveTo>
                    <a:lnTo>
                      <a:pt x="0" y="0"/>
                    </a:lnTo>
                    <a:lnTo>
                      <a:pt x="0" y="960"/>
                    </a:lnTo>
                    <a:lnTo>
                      <a:pt x="192" y="9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568920" y="4343400"/>
                <a:ext cx="0" cy="83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6351480" y="501984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4CBEE-42CE-4629-8BA9-E34DB58C0465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ING INCOME STATEMENT ACCOUNT BALANCES ON A WORK SH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C21_blue_0613" descr=""/>
          <p:cNvPicPr/>
          <p:nvPr/>
        </p:nvPicPr>
        <p:blipFill>
          <a:blip r:embed="rId1"/>
          <a:srcRect l="1781" t="0" r="1470" b="0"/>
          <a:stretch/>
        </p:blipFill>
        <p:spPr>
          <a:xfrm>
            <a:off x="457200" y="1447920"/>
            <a:ext cx="7924680" cy="3516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292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es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4864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nse balances without adjus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85144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nse balances with adjus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570720" y="1523880"/>
            <a:ext cx="411120" cy="1524240"/>
            <a:chOff x="6570720" y="1523880"/>
            <a:chExt cx="411120" cy="1524240"/>
          </a:xfrm>
        </p:grpSpPr>
        <p:sp>
          <p:nvSpPr>
            <p:cNvPr id="120" name=""/>
            <p:cNvSpPr/>
            <p:nvPr/>
          </p:nvSpPr>
          <p:spPr>
            <a:xfrm flipV="1">
              <a:off x="6781680" y="1523880"/>
              <a:ext cx="180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70720" y="15238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248520" y="3540240"/>
            <a:ext cx="563400" cy="1582560"/>
            <a:chOff x="6248520" y="3540240"/>
            <a:chExt cx="563400" cy="1582560"/>
          </a:xfrm>
        </p:grpSpPr>
        <p:grpSp>
          <p:nvGrpSpPr>
            <p:cNvPr id="123" name=""/>
            <p:cNvGrpSpPr/>
            <p:nvPr/>
          </p:nvGrpSpPr>
          <p:grpSpPr>
            <a:xfrm>
              <a:off x="6248520" y="3540240"/>
              <a:ext cx="365040" cy="1523880"/>
              <a:chOff x="6248520" y="3540240"/>
              <a:chExt cx="365040" cy="1523880"/>
            </a:xfrm>
          </p:grpSpPr>
          <p:sp>
            <p:nvSpPr>
              <p:cNvPr id="124" name=""/>
              <p:cNvSpPr/>
              <p:nvPr/>
            </p:nvSpPr>
            <p:spPr>
              <a:xfrm flipH="1">
                <a:off x="6248520" y="3540240"/>
                <a:ext cx="365040" cy="1523880"/>
              </a:xfrm>
              <a:custGeom>
                <a:avLst/>
                <a:gdLst/>
                <a:ahLst/>
                <a:rect l="l" t="t" r="r" b="b"/>
                <a:pathLst>
                  <a:path w="192" h="960">
                    <a:moveTo>
                      <a:pt x="192" y="0"/>
                    </a:moveTo>
                    <a:lnTo>
                      <a:pt x="0" y="0"/>
                    </a:lnTo>
                    <a:lnTo>
                      <a:pt x="0" y="96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248520" y="4133880"/>
                <a:ext cx="36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6400800" y="47116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118120" y="2743200"/>
            <a:ext cx="571320" cy="1600200"/>
            <a:chOff x="5118120" y="2743200"/>
            <a:chExt cx="571320" cy="1600200"/>
          </a:xfrm>
        </p:grpSpPr>
        <p:grpSp>
          <p:nvGrpSpPr>
            <p:cNvPr id="128" name=""/>
            <p:cNvGrpSpPr/>
            <p:nvPr/>
          </p:nvGrpSpPr>
          <p:grpSpPr>
            <a:xfrm>
              <a:off x="5324400" y="2819520"/>
              <a:ext cx="365040" cy="1523880"/>
              <a:chOff x="5324400" y="2819520"/>
              <a:chExt cx="365040" cy="1523880"/>
            </a:xfrm>
          </p:grpSpPr>
          <p:sp>
            <p:nvSpPr>
              <p:cNvPr id="129" name=""/>
              <p:cNvSpPr/>
              <p:nvPr/>
            </p:nvSpPr>
            <p:spPr>
              <a:xfrm>
                <a:off x="5324400" y="2819520"/>
                <a:ext cx="365040" cy="1523880"/>
              </a:xfrm>
              <a:custGeom>
                <a:avLst/>
                <a:gdLst/>
                <a:ahLst/>
                <a:rect l="l" t="t" r="r" b="b"/>
                <a:pathLst>
                  <a:path w="96" h="1536">
                    <a:moveTo>
                      <a:pt x="96" y="1536"/>
                    </a:moveTo>
                    <a:lnTo>
                      <a:pt x="0" y="1536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5324400" y="3956040"/>
                <a:ext cx="36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324400" y="3352680"/>
                <a:ext cx="36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5324400" y="3753000"/>
                <a:ext cx="36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5118120" y="27432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EF9C-73CA-4281-9744-DF286035DBEB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5560" y="5124600"/>
            <a:ext cx="241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5200" y="5486400"/>
            <a:ext cx="19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120" y="5851440"/>
            <a:ext cx="249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ING NET INCOME, AND TOTALING AND RULING A WORK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99040" y="5486400"/>
            <a:ext cx="33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net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57200" y="1447920"/>
            <a:ext cx="7772400" cy="3123720"/>
            <a:chOff x="457200" y="1447920"/>
            <a:chExt cx="7772400" cy="3123720"/>
          </a:xfrm>
        </p:grpSpPr>
        <p:pic>
          <p:nvPicPr>
            <p:cNvPr id="141" name="C21_blue_0614" descr=""/>
            <p:cNvPicPr/>
            <p:nvPr/>
          </p:nvPicPr>
          <p:blipFill>
            <a:blip r:embed="rId1"/>
            <a:srcRect l="0" t="0" r="0" b="75938"/>
            <a:stretch/>
          </p:blipFill>
          <p:spPr>
            <a:xfrm>
              <a:off x="457200" y="1447920"/>
              <a:ext cx="777240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C21_blue_0614" descr=""/>
            <p:cNvPicPr/>
            <p:nvPr/>
          </p:nvPicPr>
          <p:blipFill>
            <a:blip r:embed="rId2"/>
            <a:srcRect l="0" t="60179" r="0" b="0"/>
            <a:stretch/>
          </p:blipFill>
          <p:spPr>
            <a:xfrm>
              <a:off x="457200" y="2664000"/>
              <a:ext cx="7772400" cy="19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5633280" y="5486400"/>
            <a:ext cx="19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248520" y="4495680"/>
            <a:ext cx="411120" cy="914400"/>
            <a:chOff x="6248520" y="4495680"/>
            <a:chExt cx="411120" cy="914400"/>
          </a:xfrm>
        </p:grpSpPr>
        <p:sp>
          <p:nvSpPr>
            <p:cNvPr id="145" name=""/>
            <p:cNvSpPr/>
            <p:nvPr/>
          </p:nvSpPr>
          <p:spPr>
            <a:xfrm>
              <a:off x="6453360" y="4495680"/>
              <a:ext cx="14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48520" y="49989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620120" y="4495680"/>
            <a:ext cx="411120" cy="838080"/>
            <a:chOff x="7620120" y="4495680"/>
            <a:chExt cx="411120" cy="838080"/>
          </a:xfrm>
        </p:grpSpPr>
        <p:sp>
          <p:nvSpPr>
            <p:cNvPr id="148" name=""/>
            <p:cNvSpPr/>
            <p:nvPr/>
          </p:nvSpPr>
          <p:spPr>
            <a:xfrm>
              <a:off x="7824960" y="4495680"/>
              <a:ext cx="1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20120" y="49226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371600" y="4191120"/>
            <a:ext cx="4038480" cy="1172880"/>
            <a:chOff x="1371600" y="4191120"/>
            <a:chExt cx="4038480" cy="1172880"/>
          </a:xfrm>
        </p:grpSpPr>
        <p:sp>
          <p:nvSpPr>
            <p:cNvPr id="151" name=""/>
            <p:cNvSpPr/>
            <p:nvPr/>
          </p:nvSpPr>
          <p:spPr>
            <a:xfrm>
              <a:off x="1371600" y="4191120"/>
              <a:ext cx="4038480" cy="914400"/>
            </a:xfrm>
            <a:custGeom>
              <a:avLst/>
              <a:gdLst/>
              <a:ahLst/>
              <a:rect l="l" t="t" r="r" b="b"/>
              <a:pathLst>
                <a:path w="2544" h="576">
                  <a:moveTo>
                    <a:pt x="0" y="48"/>
                  </a:moveTo>
                  <a:lnTo>
                    <a:pt x="1296" y="576"/>
                  </a:lnTo>
                  <a:lnTo>
                    <a:pt x="25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00400" y="49528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8153280" y="4267080"/>
            <a:ext cx="660600" cy="914400"/>
            <a:chOff x="8153280" y="4267080"/>
            <a:chExt cx="660600" cy="914400"/>
          </a:xfrm>
        </p:grpSpPr>
        <p:sp>
          <p:nvSpPr>
            <p:cNvPr id="154" name=""/>
            <p:cNvSpPr/>
            <p:nvPr/>
          </p:nvSpPr>
          <p:spPr>
            <a:xfrm>
              <a:off x="8153280" y="4267080"/>
              <a:ext cx="457200" cy="838440"/>
            </a:xfrm>
            <a:custGeom>
              <a:avLst/>
              <a:gdLst/>
              <a:ahLst/>
              <a:rect l="l" t="t" r="r" b="b"/>
              <a:pathLst>
                <a:path w="96" h="528">
                  <a:moveTo>
                    <a:pt x="0" y="0"/>
                  </a:moveTo>
                  <a:lnTo>
                    <a:pt x="96" y="0"/>
                  </a:lnTo>
                  <a:lnTo>
                    <a:pt x="96" y="5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02760" y="47703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8153280" y="2984400"/>
            <a:ext cx="660600" cy="1041480"/>
            <a:chOff x="8153280" y="2984400"/>
            <a:chExt cx="660600" cy="1041480"/>
          </a:xfrm>
        </p:grpSpPr>
        <p:sp>
          <p:nvSpPr>
            <p:cNvPr id="157" name=""/>
            <p:cNvSpPr/>
            <p:nvPr/>
          </p:nvSpPr>
          <p:spPr>
            <a:xfrm>
              <a:off x="8153280" y="3187800"/>
              <a:ext cx="457200" cy="838080"/>
            </a:xfrm>
            <a:custGeom>
              <a:avLst/>
              <a:gdLst/>
              <a:ahLst/>
              <a:rect l="l" t="t" r="r" b="b"/>
              <a:pathLst>
                <a:path w="240" h="528">
                  <a:moveTo>
                    <a:pt x="0" y="528"/>
                  </a:moveTo>
                  <a:lnTo>
                    <a:pt x="240" y="528"/>
                  </a:lnTo>
                  <a:lnTo>
                    <a:pt x="2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402760" y="29844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620120" y="2971800"/>
            <a:ext cx="411120" cy="926640"/>
            <a:chOff x="7620120" y="2971800"/>
            <a:chExt cx="411120" cy="926640"/>
          </a:xfrm>
        </p:grpSpPr>
        <p:sp>
          <p:nvSpPr>
            <p:cNvPr id="160" name=""/>
            <p:cNvSpPr/>
            <p:nvPr/>
          </p:nvSpPr>
          <p:spPr>
            <a:xfrm>
              <a:off x="7824960" y="306036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20120" y="2971800"/>
              <a:ext cx="411120" cy="41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081840" y="2819520"/>
            <a:ext cx="1385640" cy="1371600"/>
            <a:chOff x="6081840" y="2819520"/>
            <a:chExt cx="1385640" cy="1371600"/>
          </a:xfrm>
        </p:grpSpPr>
        <p:sp>
          <p:nvSpPr>
            <p:cNvPr id="163" name=""/>
            <p:cNvSpPr/>
            <p:nvPr/>
          </p:nvSpPr>
          <p:spPr>
            <a:xfrm>
              <a:off x="6081840" y="4191120"/>
              <a:ext cx="137160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6858000" y="2819520"/>
              <a:ext cx="609480" cy="1269000"/>
              <a:chOff x="6858000" y="2819520"/>
              <a:chExt cx="609480" cy="1269000"/>
            </a:xfrm>
          </p:grpSpPr>
          <p:sp>
            <p:nvSpPr>
              <p:cNvPr id="165" name=""/>
              <p:cNvSpPr/>
              <p:nvPr/>
            </p:nvSpPr>
            <p:spPr>
              <a:xfrm flipH="1" flipV="1">
                <a:off x="7010280" y="3021840"/>
                <a:ext cx="45720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858000" y="2819520"/>
                <a:ext cx="411120" cy="4107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2401560" y="5851440"/>
            <a:ext cx="241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2560" y="5851440"/>
            <a:ext cx="25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9C22-0624-42C1-ADFB-6C8F263F2E2F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NG AND RECORDING A NET LOSS ON A WORK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C21_blue_0615" descr=""/>
          <p:cNvPicPr/>
          <p:nvPr/>
        </p:nvPicPr>
        <p:blipFill>
          <a:blip r:embed="rId1"/>
          <a:srcRect l="774" t="0" r="1228" b="0"/>
          <a:stretch/>
        </p:blipFill>
        <p:spPr>
          <a:xfrm>
            <a:off x="304920" y="1447920"/>
            <a:ext cx="7924680" cy="2501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5200" y="4483080"/>
            <a:ext cx="19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480" y="4844880"/>
            <a:ext cx="21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3400" y="5210280"/>
            <a:ext cx="295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net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-55440" y="4114800"/>
            <a:ext cx="303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8001000" y="2666880"/>
            <a:ext cx="890640" cy="1706760"/>
            <a:chOff x="8001000" y="2666880"/>
            <a:chExt cx="890640" cy="1706760"/>
          </a:xfrm>
        </p:grpSpPr>
        <p:sp>
          <p:nvSpPr>
            <p:cNvPr id="177" name=""/>
            <p:cNvSpPr/>
            <p:nvPr/>
          </p:nvSpPr>
          <p:spPr>
            <a:xfrm>
              <a:off x="8001000" y="2666880"/>
              <a:ext cx="685800" cy="1447920"/>
            </a:xfrm>
            <a:custGeom>
              <a:avLst/>
              <a:gdLst/>
              <a:ahLst/>
              <a:rect l="l" t="t" r="r" b="b"/>
              <a:pathLst>
                <a:path w="432" h="912">
                  <a:moveTo>
                    <a:pt x="0" y="0"/>
                  </a:moveTo>
                  <a:lnTo>
                    <a:pt x="432" y="0"/>
                  </a:lnTo>
                  <a:lnTo>
                    <a:pt x="432" y="9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80520" y="39625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772400" y="1828800"/>
            <a:ext cx="1119240" cy="685800"/>
            <a:chOff x="7772400" y="1828800"/>
            <a:chExt cx="1119240" cy="685800"/>
          </a:xfrm>
        </p:grpSpPr>
        <p:sp>
          <p:nvSpPr>
            <p:cNvPr id="180" name=""/>
            <p:cNvSpPr/>
            <p:nvPr/>
          </p:nvSpPr>
          <p:spPr>
            <a:xfrm>
              <a:off x="7772400" y="2057400"/>
              <a:ext cx="914400" cy="45720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0" y="288"/>
                  </a:moveTo>
                  <a:lnTo>
                    <a:pt x="0" y="0"/>
                  </a:lnTo>
                  <a:lnTo>
                    <a:pt x="57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80520" y="18288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392120" y="2743200"/>
            <a:ext cx="3656160" cy="411120"/>
            <a:chOff x="1392120" y="2743200"/>
            <a:chExt cx="3656160" cy="411120"/>
          </a:xfrm>
        </p:grpSpPr>
        <p:sp>
          <p:nvSpPr>
            <p:cNvPr id="183" name=""/>
            <p:cNvSpPr/>
            <p:nvPr/>
          </p:nvSpPr>
          <p:spPr>
            <a:xfrm flipH="1">
              <a:off x="1392120" y="2971800"/>
              <a:ext cx="365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71800" y="27432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897160" y="2971800"/>
            <a:ext cx="1524240" cy="1401840"/>
            <a:chOff x="5897160" y="2971800"/>
            <a:chExt cx="1524240" cy="1401840"/>
          </a:xfrm>
        </p:grpSpPr>
        <p:sp>
          <p:nvSpPr>
            <p:cNvPr id="186" name=""/>
            <p:cNvSpPr/>
            <p:nvPr/>
          </p:nvSpPr>
          <p:spPr>
            <a:xfrm flipH="1">
              <a:off x="5897160" y="2971800"/>
              <a:ext cx="2746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4320" y="2971800"/>
              <a:ext cx="304560" cy="1219320"/>
            </a:xfrm>
            <a:custGeom>
              <a:avLst/>
              <a:gdLst/>
              <a:ahLst/>
              <a:rect l="l" t="t" r="r" b="b"/>
              <a:pathLst>
                <a:path w="96" h="768">
                  <a:moveTo>
                    <a:pt x="0" y="0"/>
                  </a:moveTo>
                  <a:lnTo>
                    <a:pt x="96" y="0"/>
                  </a:lnTo>
                  <a:lnTo>
                    <a:pt x="96" y="7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10280" y="39625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0A14-3E32-4742-AA62-F260867DFD23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e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6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EF053-2512-44F7-8C19-7143371B4C8D}" type="slidenum">
              <a:t>6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6:17Z</dcterms:created>
  <dc:creator>M. C. McLaughlin</dc:creator>
  <dc:description/>
  <dc:language>en-US</dc:language>
  <cp:lastModifiedBy>M. C. McLaughlin</cp:lastModifiedBy>
  <dcterms:modified xsi:type="dcterms:W3CDTF">2005-04-22T18:01:59Z</dcterms:modified>
  <cp:revision>18</cp:revision>
  <dc:subject/>
  <dc:title>Lesson 6-1</dc:title>
</cp:coreProperties>
</file>